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C76A-7591-4D7E-89F4-70000CAEE1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hyperlink" Target="http://www.cecsi.ru/intro/vision_corporate_intro.html" TargetMode="External"/><Relationship Id="rId2" Type="http://schemas.openxmlformats.org/officeDocument/2006/relationships/hyperlink" Target="http://www.cecsi.ru/coach/employee_inspiring.html" TargetMode="External"/><Relationship Id="rId3" Type="http://schemas.openxmlformats.org/officeDocument/2006/relationships/hyperlink" Target="http://www.cecsi.ru/coach/leadership_attributes.html" TargetMode="External"/><Relationship Id="rId4" Type="http://schemas.openxmlformats.org/officeDocument/2006/relationships/hyperlink" Target="http://www.cecsi.ru/coach/change_management.html" TargetMode="External"/><Relationship Id="rId5" Type="http://schemas.openxmlformats.org/officeDocument/2006/relationships/hyperlink" Target="http://www.cecsi.ru/intro/executive_smart_brief.html" TargetMode="External"/><Relationship Id="rId6" Type="http://schemas.openxmlformats.org/officeDocument/2006/relationships/hyperlink" Target="http://www.cecsi.ru/coach/leadership_entrepreneurial.html" TargetMode="External"/><Relationship Id="rId7" Type="http://schemas.openxmlformats.org/officeDocument/2006/relationships/hyperlink" Target="http://www.cecsi.ru/coach/management_by_leadership.html" TargetMode="External"/><Relationship Id="rId8" Type="http://schemas.openxmlformats.org/officeDocument/2006/relationships/hyperlink" Target="http://www.cecsi.ru/coach/management.html" TargetMode="External"/><Relationship Id="rId9" Type="http://schemas.openxmlformats.org/officeDocument/2006/relationships/hyperlink" Target="http://www.cecsi.ru/coach/mgmt_25lessons_welch_leader.html" TargetMode="External"/><Relationship Id="rId10" Type="http://schemas.openxmlformats.org/officeDocument/2006/relationships/hyperlink" Target="http://www.cecsi.ru/coach/leadership_assessment_ge.html" TargetMode="External"/><Relationship Id="rId11" Type="http://schemas.openxmlformats.org/officeDocument/2006/relationships/hyperlink" Target="http://www.cecsi.ru/products/ten3_books_25welch.html" TargetMode="External"/><Relationship Id="rId12" Type="http://schemas.openxmlformats.org/officeDocument/2006/relationships/hyperlink" Target="http://www.cecsi.ru/coach/culture_corporate.html" TargetMode="External"/><Relationship Id="rId13" Type="http://schemas.openxmlformats.org/officeDocument/2006/relationships/hyperlink" Target="http://www.cecsi.ru/intro/culture_corporate_inspiring_intro.html" TargetMode="External"/><Relationship Id="rId14" Type="http://schemas.openxmlformats.org/officeDocument/2006/relationships/hyperlink" Target="http://www.cecsi.ru/coach/values_shared.html" TargetMode="External"/><Relationship Id="rId15" Type="http://schemas.openxmlformats.org/officeDocument/2006/relationships/hyperlink" Target="http://www.cecsi.ru/coach/fun_factor.html" TargetMode="External"/><Relationship Id="rId16" Type="http://schemas.openxmlformats.org/officeDocument/2006/relationships/hyperlink" Target="http://www.cecsi.ru/coach/failure_freedom.html" TargetMode="External"/><Relationship Id="rId17" Type="http://schemas.openxmlformats.org/officeDocument/2006/relationships/hyperlink" Target="http://www.cecsi.ru/coach/organization_flat.html" TargetMode="External"/><Relationship Id="rId18" Type="http://schemas.openxmlformats.org/officeDocument/2006/relationships/hyperlink" Target="http://www.cecsi.ru/coach/fast_company_fast_decisions.html" TargetMode="External"/><Relationship Id="rId19" Type="http://schemas.openxmlformats.org/officeDocument/2006/relationships/hyperlink" Target="http://www.cecsi.ru/coach/creativity.html" TargetMode="External"/><Relationship Id="rId20" Type="http://schemas.openxmlformats.org/officeDocument/2006/relationships/hyperlink" Target="http://www.cecsi.ru/coach/motivation.html" TargetMode="External"/><Relationship Id="rId21" Type="http://schemas.openxmlformats.org/officeDocument/2006/relationships/hyperlink" Target="http://www.cecsi.ru/coach/employee_energizing.html" TargetMode="External"/><Relationship Id="rId22" Type="http://schemas.openxmlformats.org/officeDocument/2006/relationships/hyperlink" Target="http://www.cecsi.ru/intro/executive_smart_brief.html" TargetMode="External"/><Relationship Id="rId23" Type="http://schemas.openxmlformats.org/officeDocument/2006/relationships/hyperlink" Target="http://www.cecsi.ru/coach/entrepreneurial_creativity.html" TargetMode="External"/><Relationship Id="rId24" Type="http://schemas.openxmlformats.org/officeDocument/2006/relationships/hyperlink" Target="http://www.cecsi.ru/coach/process_mgmt.html" TargetMode="External"/><Relationship Id="rId25" Type="http://schemas.openxmlformats.org/officeDocument/2006/relationships/hyperlink" Target="http://www.cecsi.ru/coach/mgmt_crossfunctional.html" TargetMode="External"/><Relationship Id="rId26" Type="http://schemas.openxmlformats.org/officeDocument/2006/relationships/hyperlink" Target="http://www.cecsi.ru/coach/mgmt_crossfunctional.html" TargetMode="External"/><Relationship Id="rId27" Type="http://schemas.openxmlformats.org/officeDocument/2006/relationships/hyperlink" Target="http://www.cecsi.ru/coach/team_cf.html" TargetMode="External"/><Relationship Id="rId28" Type="http://schemas.openxmlformats.org/officeDocument/2006/relationships/hyperlink" Target="http://www.cecsi.ru/coach/team_cf.html" TargetMode="External"/><Relationship Id="rId29" Type="http://schemas.openxmlformats.org/officeDocument/2006/relationships/hyperlink" Target="http://www.cecsi.ru/coach/team.html" TargetMode="External"/><Relationship Id="rId30" Type="http://schemas.openxmlformats.org/officeDocument/2006/relationships/hyperlink" Target="http://www.cecsi.ru/coach/culture_corporate.html" TargetMode="External"/><Relationship Id="rId31" Type="http://schemas.openxmlformats.org/officeDocument/2006/relationships/slide" Target="../slides/slide36.xml"/><Relationship Id="rId3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E1FA-CDCC-42EF-8939-14CFDA1219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1009-684B-472F-83BB-6BCCB2807A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AD9A-ABEE-469F-8A29-5334B97A34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BCE2-0ABB-4725-827E-26424F30EE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7797-DA80-447F-8642-82EAD31846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3D7A-E1D3-47DB-9AE6-494BEDBE7F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A151-0EF0-42FE-96D9-2F12F8FFA3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0F86-4E4C-4D09-B869-88E54F22BC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т четкого видения будущег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корпоративные</a:t>
            </a:r>
            <a:r>
              <a:rPr b="0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ид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миссия 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дохновляют сотрудник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деятельность людей стратегически не нацелена; люди не знают, в каком направлении движется организация, и чего она хочет достичь в будущем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лидерских качеств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навыков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люди боятся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еремен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п-менеджерам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не хватаем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духа предпринимательств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лидерский стиль менедж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слишком директивный, или слишком анархичный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менеджер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являются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лидерам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а либо просто администраторами, либо увлекаются микроменеджментом; слабая программ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развития лид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компании.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Корпоративная культура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вдохновляет люд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общие ценност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тсутствуют; недостаток доверия между людьми; непрерывные поиски виновных; люди концентрируются на проблемах, а не на возможностях; люди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получают удовольствия от работ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разнообразие мнение не поощряется; нетерпимость 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неудачам – двигателям инноваций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люди теряют доверие к лидерам и системам управл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ольшая бюрократия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юрократические организационные структуры с большим числом уровней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плоск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высокие барьеры между менеджерскими уровнями и департаментами; решения принимаются медленно,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быстро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чрезмерный надзор за работой подчиненных; слишком много инструментов и документов, отбивающих у людей охоту мыслить и действовать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и руководство, и сотрудники терпят бюрократию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инициативы как сверху, так и снизу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люди слабо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мотивирован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заряжены энерги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люди не чувствуют, что своей работой делают положительный вклад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топ-менеджерам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удается эффективно вдохновить всех сотрудников на великие свершения: люди  работают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а оборонительно – они исполняют свои обязанности и ничего боле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система оповещения сотрудников о стратегических намерениях организации: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у людей нет представления об общей картине развития бизнеса и организации, и поэтому они не понимают, какой вклад в это делает их работа; они не могут понять истиной значимости себя и своей работы для организации; неопределенность слишком велика; сотрудники не знают, о чем думает топ-менеджмент и какие планы они строя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кросс-функциональное сотрудничеств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сотрудники нацелены на выполнение задач лишь своего отдела, а не организации в целом; кросс-фнкциональные цели либо отсутствуют, либо не являются достаточно значимыми; слабый дух кросс-функционального сотрудничества; отсутствие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системного подхода к управлению бизнес-процессам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слабый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кросс-функционально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 управлен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кросс-функцинальны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 команд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либо отсутствуют, либо слаб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командная работа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многие не понимают различия между группой людей и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командо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организация не привержена созданию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корпоративной культур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нацеленной на командную работу; отсутствуют общие ценности и цели, способные вдохновить людей; слабые лидеры команд; к членам команд, которые не хотят работать в команде, относятся терпимо; в командах слишком много людей; отсутствие вознаграждений за успешную командную работу и командные достиж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управление знаниями и идеями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крестное опыление идей между сотрудниками никак не облегчено; стратегии и системы управления знаниями и идеями либо отсутствуют, либо слабы; организация поражена синдромами "да мы все это знаем"  и "хорошо только то, что придумано нами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МАРТ бизнес-лиде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mart &amp; Fast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н3 тренинг для современных топ-менеджеров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 &gt;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не допустить вирус инноваций в твою организацию: 10 принципов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озведи «Великую китайскую стену» между департаментами. Каждый департамент – информация, технологии, производство, финансы, маркетинг – должен заниматься решением своих узких задач и не пытаться создавать что-то новое совместно с другими департаментами. Это только отвлекает людей от дела. Поэтому ставь перед департаментами лишь функциональные цели, а не общекорпоративные, и не создавай кросс-функцинальных команд...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gt;&gt;&gt;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254B-4092-495B-8833-F3BE993D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168-54BE-4A3B-B3AA-A44E2E83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A25-9B0B-41F6-B851-F1D7BEC3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604E-7427-461D-B653-B059E81B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D819-F88E-4813-813B-BC0BB0D6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4FC1-2B58-4715-8571-766C7FA5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21F5-9A83-44B4-BC1F-4892C05E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517D-14DC-41C6-9FE5-3D3648C7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9EC2-B4F0-42D2-98C3-6CD19006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D1C8-BA54-45C9-8794-5196C976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096B-8ED7-4260-ABF7-0AE3F450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1879-7C99-40A3-8B67-0F14EF78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03EF-6BD4-4C9D-ADBF-8E39C809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1A49-C55E-4723-9943-23CC926F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E73B-AEB9-4AB9-A1B8-BB0A3A7A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D725-8D6F-44C0-B5DF-65D8F4EF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5817-DE57-4614-8F8D-10F80829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43C-832C-42DF-9CD8-25E338D5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828-A16B-429E-A24F-70C629F2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5A8E-D335-42F8-8B6A-3DCE8590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48F9-260E-4DB8-8C9F-1FDF30BF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9866-4D5A-4738-8ABA-074C50B3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989B-F28C-4C87-990E-BCBFBCE6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7FCA-9373-4C56-9034-B708DC6E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E475-95AB-4E63-BAF6-5B00D2E49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A66E-13F0-41BF-9C0E-F3CDD21E6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здание организационных структур управле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940000" y="1699920"/>
            <a:ext cx="2590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Занятие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28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4714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Линейно - штабная структура управления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5" descr="iso9000-14"/>
          <p:cNvPicPr/>
          <p:nvPr/>
        </p:nvPicPr>
        <p:blipFill>
          <a:blip r:embed="rId1"/>
          <a:stretch/>
        </p:blipFill>
        <p:spPr>
          <a:xfrm>
            <a:off x="755640" y="2060640"/>
            <a:ext cx="7570800" cy="3846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5865840" cy="1647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 – штабной организационной структуры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2421000"/>
            <a:ext cx="7313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остоинства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более глубокая, чем в линейной, проработка стратегических вопрос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которая разгрузка высших руководителей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возможность привлечения внешних консультантов и эксперт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при наделении штабных подразделений правами функционального руководства такая структура - хороший первый шаг к более эффективным органическим структурам управле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достаточно четкое распределение ответственности, т. к. лица, готовящие решение, не участвуют в его выполнени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тенденции к чрезмерной централизаци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аналогичные линейной структуре, частично - в ослабленном виде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521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ивизионная структура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Picture 5" descr="iso9000-15"/>
          <p:cNvPicPr/>
          <p:nvPr/>
        </p:nvPicPr>
        <p:blipFill>
          <a:blip r:embed="rId1"/>
          <a:stretch/>
        </p:blipFill>
        <p:spPr>
          <a:xfrm>
            <a:off x="1187280" y="1628640"/>
            <a:ext cx="5616720" cy="4969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794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Характеристики дивизион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96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на обеспечивает управление многопрофильными предприятиями с общей численностью сотрудников порядка сотен тысяч и территориально удаленными подразделениям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беспечивает большую гибкость и более быструю реакцию на изменения в окружении предприятия по сравнению с линейной и линейно - штабной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и расширении границ самостоятельности отделений они становятся "центрами получения прибыли", активно работая по повышении эффективности и качества производств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ее тесная связь производства с потребителя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ьшое количество "этажей" управленческой вертикали; между рабочими и управляющим производством подразделения - 3 и более уровня управления, между рабочими и руководством компании - 5 и более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разобщенность штабных структур отделений от штабов компани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сновные связи - вертикальные, поэтому остаются общие для иерархических структур недостатки - волокита, перегруженность управленцев, плохое взаимодействие при решении вопросов, смежных для подразделений и т. д. 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дублирование функций на разных "этажах" и как следствие - очень высокие затраты на содержание управленческой структуры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в отделениях, как правило, сохраняется линейная или линейно - штабная структура со всеми их недостатка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4714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ческий тип структур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7313400" cy="217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Проектная структур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Матричная (программно-целевая) структу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Бригадная форм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00000" y="4437000"/>
            <a:ext cx="69850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26254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оект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Picture 5" descr="iso9000-16"/>
          <p:cNvPicPr/>
          <p:nvPr/>
        </p:nvPicPr>
        <p:blipFill>
          <a:blip r:embed="rId1"/>
          <a:stretch/>
        </p:blipFill>
        <p:spPr>
          <a:xfrm>
            <a:off x="971640" y="2133720"/>
            <a:ext cx="7200720" cy="4349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722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проект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высокая гибкост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окращение численности управленческого персонала по сравнению с иерархическими структура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очень высокие требования квалификации, личным и деловым качествам руководителя проекта, который должен не только управлять всеми стадиями жизненного цикла проекта, но и учитывать место проекта в сети проекто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дробление ресурсов между проектам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ложность взаимодействия большого числа проектов 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усложнение процесса развития организации как единого целого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633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Матричная структура управления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 фирме "Тойота"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5" descr="iso9000-18"/>
          <p:cNvPicPr/>
          <p:nvPr/>
        </p:nvPicPr>
        <p:blipFill>
          <a:blip r:embed="rId1"/>
          <a:stretch/>
        </p:blipFill>
        <p:spPr>
          <a:xfrm>
            <a:off x="250920" y="1700280"/>
            <a:ext cx="7488000" cy="4895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586584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матрич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30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матрич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учшая ориентация на проектные (или программные) цели и спрос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эффективное текущее управление, возможность снижения расходов и повышения эффективности использования ресурс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гибкое и эффективное использование персонала организации, специальных знаний и компетентности сотрудни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носительная автономность проектных групп или программных комитетов способствует развитию у работников навыков принятия решений, управленческой культуры, профессиональных навы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улучшение контроля за отдельными задачами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юбая работа организационно оформляется, назначается одно лицо - "хозяин" процесса, служащее центром сосредоточения всех вопросов, касающихся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сокращается время реакции на нужды проекта или программы, т. к. созданы горизонтальные коммуникации и единый центр принятия реш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матричных структур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рудность установления четкой ответственности за работу по заданию подразделения и по заданию проекта или программы (следствие двойного подчинения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обходимость постоянного контроля за соотношением ресурсов, выделяемых подразделениям и программам или проекта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ысокие требования к квалификации, личным и деловым качествам работников, работающих в группах, необходимость их обуч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астые конфликтные ситуации между руководителями подразделений и проектов или програм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озможность нарушения правил и стандартов, принятых в функциональных подразделениях, из-за оторванности сотрудников, участвующих в проекте или программе, от своих подраздел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6192720" cy="139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организации, состоящей из рабочих групп (бригадная)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Picture 5" descr="iso9000-17"/>
          <p:cNvPicPr/>
          <p:nvPr/>
        </p:nvPicPr>
        <p:blipFill>
          <a:blip r:embed="rId1"/>
          <a:stretch/>
        </p:blipFill>
        <p:spPr>
          <a:xfrm>
            <a:off x="971640" y="1989000"/>
            <a:ext cx="7488000" cy="3789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02480" y="262440"/>
            <a:ext cx="616716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Создание организационных структур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Организационное проектирова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1. Цели организационного проектир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Элементы структуры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.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2. Иерарх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3. Линейн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4. Линейно - штаб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5. Дивизион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6. Орган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7. Проект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8. Матрич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9. Структура организации, состоящей из рабочи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упп (бригадная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0. Сетев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 Подходы к организационному проектировани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1. Классический подход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2. Ситуацион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3. Процесс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роектирование рабочего мес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Критерии  оценки долж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372360" y="83664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93080" y="2708280"/>
            <a:ext cx="1726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5761080" cy="1728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Характеристики бригадной (кросс-функциональной) структуры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7777440" cy="374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Преимущества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ение управленческого аппарата, повышение эффективност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ибкое использование кадров, их знаний и компетентност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абота в группах создает условия для самосовершенствова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озможность применения эффективных методов планирования 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ается потребность в специалистах широкого профил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Недостатки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усложнение взаимодействия (в особенности для кросс-функциональной структуры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ложность в координации работ отдельных бригад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ая квалификация и ответственность персонала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ие требования к коммуникациям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55164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626292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тевая организационная структу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826920" y="1125360"/>
          <a:ext cx="6120000" cy="316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25360"/>
                    <a:ext cx="612000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4292640"/>
            <a:ext cx="8569440" cy="22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Зачатки: в структурах холдингового типа, в ассоциациях делового сотрудничества и т.п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Особенно перспективны в открытых социально-экономических системах, ориентированных на сотрудничеств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Суть: отношения прямого сотрудничества непосредственных исполнителей впервые вытесняют иерархически бюрократические отнош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Менеджмент – уже не надстройка над производственной и рыночной, маркетинговой базой, выполняющая контрольно-распорядительными функциями, а напротив, поддержка этой баз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00720" y="105264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3212640"/>
            <a:ext cx="4752720" cy="157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дходы к организационному проектированию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59280" y="5013360"/>
            <a:ext cx="3240000" cy="14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лассиче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итуацион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оцессны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8360" y="333360"/>
            <a:ext cx="849780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ункции менеджера становятся более сравнимы с функциями тренера: подбор игроков, их обучение и постоянная тренировка, формирование команды, организация совместной работ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 – играющий тренер. Его контрольно-распорядительные функции сочетаются с талантом специалиста, создающего определенную конкретну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оимость,  способного  к наращиванию “человеческого капитала”, а такж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ственно “командного капитала”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372360" y="299736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543420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лассический подход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Picture 5" descr="Цепочка создания ценности"/>
          <p:cNvPicPr/>
          <p:nvPr/>
        </p:nvPicPr>
        <p:blipFill>
          <a:blip r:embed="rId1"/>
          <a:stretch/>
        </p:blipFill>
        <p:spPr>
          <a:xfrm>
            <a:off x="900000" y="1773360"/>
            <a:ext cx="630576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5722920" cy="752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итуационный подход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онимание процесса управления, группового и индивидуального поведения, задач и содержания системного анализа, методов планирования и контроля, включая количественные методы принятия решений. Понимание должно быть сформировано в процессе ознакомления (обучения) со средствами профессионального управления, которые показали свою эффективность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предвидеть вероятные последствия (положительные и отрицательные) при использовании конкретной методики или концепции в конкретной ситуации, базирующееся на четкой оценке сильных и слабых сторон известных и применяемых управленческих концепций и методик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авильная интерпретация и анализ конкретной ситуации, направленные на определение наиболее важных в данной ситуации факторов и оценку вероятного эффекта, который может повлечь за собой изменение одной или нескольких ситуационных переменных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увязать конкретные приемы (концепции, методы) принятия решения, которые вызвали бы наименьшие отрицательные последствия, с рассматриваемой ситуацией для достижения целей самым эффективным (рациональным) путем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226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Европейская модель оценки совершенства EFQ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5" name="Picture 5" descr=" Европейская модель оценки совершенства EFQM"/>
          <p:cNvPicPr/>
          <p:nvPr/>
        </p:nvPicPr>
        <p:blipFill>
          <a:blip r:embed="rId1"/>
          <a:stretch/>
        </p:blipFill>
        <p:spPr>
          <a:xfrm>
            <a:off x="971640" y="1989000"/>
            <a:ext cx="7596000" cy="4184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7313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Процессный подхо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8351640" cy="2664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84360" y="333360"/>
            <a:ext cx="626400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1. Определить внешних клиентов организации и входы/выходы дл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ции в целом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362240" y="2752560"/>
            <a:ext cx="6284520" cy="3521160"/>
            <a:chOff x="1362240" y="2752560"/>
            <a:chExt cx="6284520" cy="3521160"/>
          </a:xfrm>
        </p:grpSpPr>
        <p:sp>
          <p:nvSpPr>
            <p:cNvPr id="182" name="Rectangle 4"/>
            <p:cNvSpPr/>
            <p:nvPr/>
          </p:nvSpPr>
          <p:spPr>
            <a:xfrm>
              <a:off x="2793960" y="3645000"/>
              <a:ext cx="3457440" cy="1800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3060720" y="2781360"/>
              <a:ext cx="26776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ее окружение организаци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Oval 6"/>
            <p:cNvSpPr/>
            <p:nvPr/>
          </p:nvSpPr>
          <p:spPr>
            <a:xfrm>
              <a:off x="7078320" y="2968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727920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Oval 8"/>
            <p:cNvSpPr/>
            <p:nvPr/>
          </p:nvSpPr>
          <p:spPr>
            <a:xfrm>
              <a:off x="7211520" y="3976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Oval 9"/>
            <p:cNvSpPr/>
            <p:nvPr/>
          </p:nvSpPr>
          <p:spPr>
            <a:xfrm>
              <a:off x="136224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Oval 10"/>
            <p:cNvSpPr/>
            <p:nvPr/>
          </p:nvSpPr>
          <p:spPr>
            <a:xfrm>
              <a:off x="1428120" y="390528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Oval 11"/>
            <p:cNvSpPr/>
            <p:nvPr/>
          </p:nvSpPr>
          <p:spPr>
            <a:xfrm>
              <a:off x="1561320" y="2752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1398600" y="5877000"/>
              <a:ext cx="2658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4988160" y="5877000"/>
              <a:ext cx="2658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ы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1929600" y="3141720"/>
              <a:ext cx="864360" cy="71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1797480" y="4149720"/>
              <a:ext cx="996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>
              <a:off x="1731240" y="5300640"/>
              <a:ext cx="106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Line 17"/>
            <p:cNvSpPr/>
            <p:nvPr/>
          </p:nvSpPr>
          <p:spPr>
            <a:xfrm flipV="1">
              <a:off x="6251760" y="3357360"/>
              <a:ext cx="79704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>
              <a:off x="6251760" y="4221000"/>
              <a:ext cx="930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Line 19"/>
            <p:cNvSpPr/>
            <p:nvPr/>
          </p:nvSpPr>
          <p:spPr>
            <a:xfrm>
              <a:off x="6251760" y="5300640"/>
              <a:ext cx="996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Line 20"/>
            <p:cNvSpPr/>
            <p:nvPr/>
          </p:nvSpPr>
          <p:spPr>
            <a:xfrm flipH="1" flipV="1">
              <a:off x="2195640" y="5373360"/>
              <a:ext cx="2667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 flipV="1">
              <a:off x="6384960" y="5373360"/>
              <a:ext cx="1990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>
              <a:off x="5586120" y="3213000"/>
              <a:ext cx="139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Line 23"/>
            <p:cNvSpPr/>
            <p:nvPr/>
          </p:nvSpPr>
          <p:spPr>
            <a:xfrm flipH="1">
              <a:off x="1996560" y="2997360"/>
              <a:ext cx="119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55164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95280" y="333360"/>
            <a:ext cx="62546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2. Составить перечень основны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ов организаци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ормирующих внешние вых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247760" y="2349360"/>
            <a:ext cx="7111800" cy="4032360"/>
            <a:chOff x="1247760" y="2349360"/>
            <a:chExt cx="7111800" cy="4032360"/>
          </a:xfrm>
        </p:grpSpPr>
        <p:sp>
          <p:nvSpPr>
            <p:cNvPr id="205" name="Rectangle 4"/>
            <p:cNvSpPr/>
            <p:nvPr/>
          </p:nvSpPr>
          <p:spPr>
            <a:xfrm>
              <a:off x="2244240" y="2852640"/>
              <a:ext cx="5118840" cy="3529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AutoShape 5"/>
            <p:cNvSpPr/>
            <p:nvPr/>
          </p:nvSpPr>
          <p:spPr>
            <a:xfrm>
              <a:off x="3043080" y="443700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AutoShape 6"/>
            <p:cNvSpPr/>
            <p:nvPr/>
          </p:nvSpPr>
          <p:spPr>
            <a:xfrm>
              <a:off x="3043080" y="3500280"/>
              <a:ext cx="3921480" cy="56520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043080" y="537372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изнес-процесс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124776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124776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124776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1"/>
            <p:cNvSpPr/>
            <p:nvPr/>
          </p:nvSpPr>
          <p:spPr>
            <a:xfrm>
              <a:off x="742932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742932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AutoShape 13"/>
            <p:cNvSpPr/>
            <p:nvPr/>
          </p:nvSpPr>
          <p:spPr>
            <a:xfrm>
              <a:off x="742932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15" name="AutoShape 14"/>
            <p:cNvCxnSpPr>
              <a:stCxn id="209" idx="0"/>
              <a:endCxn id="206" idx="0"/>
            </p:cNvCxnSpPr>
            <p:nvPr/>
          </p:nvCxnSpPr>
          <p:spPr>
            <a:xfrm>
              <a:off x="2178000" y="3754080"/>
              <a:ext cx="865440" cy="9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AutoShape 15"/>
            <p:cNvCxnSpPr>
              <a:stCxn id="210" idx="0"/>
              <a:endCxn id="207" idx="0"/>
            </p:cNvCxnSpPr>
            <p:nvPr/>
          </p:nvCxnSpPr>
          <p:spPr>
            <a:xfrm flipV="1">
              <a:off x="2178000" y="3782520"/>
              <a:ext cx="86544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" name="AutoShape 16"/>
            <p:cNvCxnSpPr>
              <a:stCxn id="211" idx="0"/>
              <a:endCxn id="208" idx="0"/>
            </p:cNvCxnSpPr>
            <p:nvPr/>
          </p:nvCxnSpPr>
          <p:spPr>
            <a:xfrm>
              <a:off x="2178000" y="5625720"/>
              <a:ext cx="86544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8" name="AutoShape 17"/>
            <p:cNvCxnSpPr>
              <a:stCxn id="207" idx="1"/>
              <a:endCxn id="212" idx="0"/>
            </p:cNvCxnSpPr>
            <p:nvPr/>
          </p:nvCxnSpPr>
          <p:spPr>
            <a:xfrm flipV="1">
              <a:off x="6964560" y="3753720"/>
              <a:ext cx="465120" cy="2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9" name="AutoShape 18"/>
            <p:cNvCxnSpPr>
              <a:stCxn id="206" idx="1"/>
              <a:endCxn id="213" idx="0"/>
            </p:cNvCxnSpPr>
            <p:nvPr/>
          </p:nvCxnSpPr>
          <p:spPr>
            <a:xfrm flipV="1">
              <a:off x="6964560" y="4689000"/>
              <a:ext cx="465120" cy="3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AutoShape 19"/>
            <p:cNvCxnSpPr>
              <a:stCxn id="208" idx="1"/>
              <a:endCxn id="214" idx="0"/>
            </p:cNvCxnSpPr>
            <p:nvPr/>
          </p:nvCxnSpPr>
          <p:spPr>
            <a:xfrm flipV="1">
              <a:off x="6964560" y="5625360"/>
              <a:ext cx="46512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1" name="Text Box 20"/>
            <p:cNvSpPr/>
            <p:nvPr/>
          </p:nvSpPr>
          <p:spPr>
            <a:xfrm>
              <a:off x="3616560" y="4508640"/>
              <a:ext cx="22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Text Box 21"/>
            <p:cNvSpPr/>
            <p:nvPr/>
          </p:nvSpPr>
          <p:spPr>
            <a:xfrm>
              <a:off x="3707280" y="2349360"/>
              <a:ext cx="172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2969280" y="2997360"/>
              <a:ext cx="350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сновные бизнес-процесс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395280" y="333360"/>
            <a:ext cx="6048360" cy="1582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3. Определить внутрен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ходы/выходы каждого процесса и недостающие вспомогательн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247760" y="2430360"/>
            <a:ext cx="6522840" cy="4140360"/>
            <a:chOff x="1247760" y="2430360"/>
            <a:chExt cx="6522840" cy="4140360"/>
          </a:xfrm>
        </p:grpSpPr>
        <p:grpSp>
          <p:nvGrpSpPr>
            <p:cNvPr id="227" name="Group 4"/>
            <p:cNvGrpSpPr/>
            <p:nvPr/>
          </p:nvGrpSpPr>
          <p:grpSpPr>
            <a:xfrm>
              <a:off x="1247760" y="3029040"/>
              <a:ext cx="6522840" cy="3541680"/>
              <a:chOff x="1247760" y="3029040"/>
              <a:chExt cx="6522840" cy="3541680"/>
            </a:xfrm>
          </p:grpSpPr>
          <p:sp>
            <p:nvSpPr>
              <p:cNvPr id="228" name="Rectangle 5"/>
              <p:cNvSpPr/>
              <p:nvPr/>
            </p:nvSpPr>
            <p:spPr>
              <a:xfrm>
                <a:off x="2161800" y="3029040"/>
                <a:ext cx="4695120" cy="35416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AutoShape 6"/>
              <p:cNvSpPr/>
              <p:nvPr/>
            </p:nvSpPr>
            <p:spPr>
              <a:xfrm>
                <a:off x="2894400" y="3601440"/>
                <a:ext cx="3596760" cy="49968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AutoShape 7"/>
              <p:cNvSpPr/>
              <p:nvPr/>
            </p:nvSpPr>
            <p:spPr>
              <a:xfrm>
                <a:off x="124776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AutoShape 8"/>
              <p:cNvSpPr/>
              <p:nvPr/>
            </p:nvSpPr>
            <p:spPr>
              <a:xfrm>
                <a:off x="124776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AutoShape 9"/>
              <p:cNvSpPr/>
              <p:nvPr/>
            </p:nvSpPr>
            <p:spPr>
              <a:xfrm>
                <a:off x="124776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AutoShape 10"/>
              <p:cNvSpPr/>
              <p:nvPr/>
            </p:nvSpPr>
            <p:spPr>
              <a:xfrm>
                <a:off x="691740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AutoShape 11"/>
              <p:cNvSpPr/>
              <p:nvPr/>
            </p:nvSpPr>
            <p:spPr>
              <a:xfrm>
                <a:off x="691740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AutoShape 12"/>
              <p:cNvSpPr/>
              <p:nvPr/>
            </p:nvSpPr>
            <p:spPr>
              <a:xfrm>
                <a:off x="691740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236" name="AutoShape 13"/>
              <p:cNvCxnSpPr>
                <a:stCxn id="230" idx="0"/>
                <a:endCxn id="237" idx="0"/>
              </p:cNvCxnSpPr>
              <p:nvPr/>
            </p:nvCxnSpPr>
            <p:spPr>
              <a:xfrm>
                <a:off x="2100600" y="3826440"/>
                <a:ext cx="793800" cy="859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8" name="AutoShape 14"/>
              <p:cNvCxnSpPr>
                <a:stCxn id="231" idx="0"/>
                <a:endCxn id="229" idx="0"/>
              </p:cNvCxnSpPr>
              <p:nvPr/>
            </p:nvCxnSpPr>
            <p:spPr>
              <a:xfrm flipV="1">
                <a:off x="2100600" y="3850920"/>
                <a:ext cx="793800" cy="80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9" name="AutoShape 15"/>
              <p:cNvCxnSpPr>
                <a:stCxn id="232" idx="0"/>
                <a:endCxn id="240" idx="0"/>
              </p:cNvCxnSpPr>
              <p:nvPr/>
            </p:nvCxnSpPr>
            <p:spPr>
              <a:xfrm>
                <a:off x="2100600" y="5481000"/>
                <a:ext cx="7938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1" name="AutoShape 16"/>
              <p:cNvCxnSpPr>
                <a:stCxn id="229" idx="1"/>
                <a:endCxn id="233" idx="0"/>
              </p:cNvCxnSpPr>
              <p:nvPr/>
            </p:nvCxnSpPr>
            <p:spPr>
              <a:xfrm flipV="1">
                <a:off x="6490800" y="3825720"/>
                <a:ext cx="426600" cy="25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2" name="AutoShape 17"/>
              <p:cNvCxnSpPr>
                <a:stCxn id="237" idx="1"/>
                <a:endCxn id="234" idx="0"/>
              </p:cNvCxnSpPr>
              <p:nvPr/>
            </p:nvCxnSpPr>
            <p:spPr>
              <a:xfrm flipV="1">
                <a:off x="6490800" y="465300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3" name="AutoShape 18"/>
              <p:cNvCxnSpPr>
                <a:stCxn id="240" idx="1"/>
                <a:endCxn id="235" idx="0"/>
              </p:cNvCxnSpPr>
              <p:nvPr/>
            </p:nvCxnSpPr>
            <p:spPr>
              <a:xfrm flipV="1">
                <a:off x="6490800" y="548064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4" name="Text Box 19"/>
              <p:cNvSpPr/>
              <p:nvPr/>
            </p:nvSpPr>
            <p:spPr>
              <a:xfrm>
                <a:off x="3326760" y="4492800"/>
                <a:ext cx="227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Text Box 20"/>
              <p:cNvSpPr/>
              <p:nvPr/>
            </p:nvSpPr>
            <p:spPr>
              <a:xfrm>
                <a:off x="2682360" y="3155400"/>
                <a:ext cx="350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Основные бизнес-процессы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AutoShape 21"/>
              <p:cNvSpPr/>
              <p:nvPr/>
            </p:nvSpPr>
            <p:spPr>
              <a:xfrm>
                <a:off x="2954520" y="6060960"/>
                <a:ext cx="3597120" cy="342360"/>
              </a:xfrm>
              <a:custGeom>
                <a:avLst/>
                <a:gdLst>
                  <a:gd name="textAreaLeft" fmla="*/ 0 w 3597120"/>
                  <a:gd name="textAreaRight" fmla="*/ 3597480 w 3597120"/>
                  <a:gd name="textAreaTop" fmla="*/ 0 h 342360"/>
                  <a:gd name="textAreaBottom" fmla="*/ 342360 h 34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Вспомогательный 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Line 22"/>
              <p:cNvSpPr/>
              <p:nvPr/>
            </p:nvSpPr>
            <p:spPr>
              <a:xfrm flipV="1">
                <a:off x="5332680" y="5767200"/>
                <a:ext cx="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Line 23"/>
              <p:cNvSpPr/>
              <p:nvPr/>
            </p:nvSpPr>
            <p:spPr>
              <a:xfrm flipV="1">
                <a:off x="5332680" y="493920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Line 24"/>
              <p:cNvSpPr/>
              <p:nvPr/>
            </p:nvSpPr>
            <p:spPr>
              <a:xfrm flipV="1">
                <a:off x="5272200" y="411084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Line 25"/>
              <p:cNvSpPr/>
              <p:nvPr/>
            </p:nvSpPr>
            <p:spPr>
              <a:xfrm flipV="1">
                <a:off x="4356720" y="4939200"/>
                <a:ext cx="0" cy="114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Line 26"/>
              <p:cNvSpPr/>
              <p:nvPr/>
            </p:nvSpPr>
            <p:spPr>
              <a:xfrm>
                <a:off x="47239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Line 27"/>
              <p:cNvSpPr/>
              <p:nvPr/>
            </p:nvSpPr>
            <p:spPr>
              <a:xfrm flipV="1">
                <a:off x="3930480" y="4111200"/>
                <a:ext cx="0" cy="19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Line 28"/>
              <p:cNvSpPr/>
              <p:nvPr/>
            </p:nvSpPr>
            <p:spPr>
              <a:xfrm>
                <a:off x="3564720" y="4111200"/>
                <a:ext cx="0" cy="114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Line 29"/>
              <p:cNvSpPr/>
              <p:nvPr/>
            </p:nvSpPr>
            <p:spPr>
              <a:xfrm>
                <a:off x="31993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AutoShape 30"/>
              <p:cNvSpPr/>
              <p:nvPr/>
            </p:nvSpPr>
            <p:spPr>
              <a:xfrm>
                <a:off x="2894400" y="5258160"/>
                <a:ext cx="3596760" cy="50904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040"/>
                  <a:gd name="textAreaBottom" fmla="*/ 509040 h 50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AutoShape 31"/>
              <p:cNvSpPr/>
              <p:nvPr/>
            </p:nvSpPr>
            <p:spPr>
              <a:xfrm>
                <a:off x="2894400" y="4429800"/>
                <a:ext cx="3596760" cy="50940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400"/>
                  <a:gd name="textAreaBottom" fmla="*/ 509760 h 5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5" name="Text Box 32"/>
            <p:cNvSpPr/>
            <p:nvPr/>
          </p:nvSpPr>
          <p:spPr>
            <a:xfrm>
              <a:off x="3370680" y="243036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3817800" cy="12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ое проектирова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по перспективному устройству бизнес-корпор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о процессу её преобразования от актуального состояния к перспективном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755640" y="189000"/>
            <a:ext cx="4383000" cy="129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4. Описать кажды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бизнес-процесс в вид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бора функц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1049400" y="2343240"/>
            <a:ext cx="7842240" cy="4516920"/>
            <a:chOff x="1049400" y="2343240"/>
            <a:chExt cx="7842240" cy="4516920"/>
          </a:xfrm>
        </p:grpSpPr>
        <p:sp>
          <p:nvSpPr>
            <p:cNvPr id="259" name="AutoShape 4"/>
            <p:cNvSpPr/>
            <p:nvPr/>
          </p:nvSpPr>
          <p:spPr>
            <a:xfrm>
              <a:off x="1049400" y="2349360"/>
              <a:ext cx="7842240" cy="1584360"/>
            </a:xfrm>
            <a:custGeom>
              <a:avLst/>
              <a:gdLst>
                <a:gd name="textAreaLeft" fmla="*/ 0 w 7842240"/>
                <a:gd name="textAreaRight" fmla="*/ 7842600 w 78422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>
              <a:off x="12484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251172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377460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5037840" y="2852640"/>
              <a:ext cx="99612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62992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3242880" y="589752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>
              <a:off x="2378520" y="589752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>
              <a:off x="3242880" y="553248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>
              <a:off x="2378520" y="553248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>
              <a:off x="3242880" y="516744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>
              <a:off x="2378520" y="516744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>
              <a:off x="3242880" y="4802040"/>
              <a:ext cx="2729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>
              <a:off x="2378520" y="4802040"/>
              <a:ext cx="864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>
              <a:off x="3242880" y="443700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2378520" y="443700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Line 20"/>
            <p:cNvSpPr/>
            <p:nvPr/>
          </p:nvSpPr>
          <p:spPr>
            <a:xfrm>
              <a:off x="2378520" y="443700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Line 21"/>
            <p:cNvSpPr/>
            <p:nvPr/>
          </p:nvSpPr>
          <p:spPr>
            <a:xfrm>
              <a:off x="2378520" y="48020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Line 22"/>
            <p:cNvSpPr/>
            <p:nvPr/>
          </p:nvSpPr>
          <p:spPr>
            <a:xfrm>
              <a:off x="2378520" y="51674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Line 23"/>
            <p:cNvSpPr/>
            <p:nvPr/>
          </p:nvSpPr>
          <p:spPr>
            <a:xfrm>
              <a:off x="2378520" y="553248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24"/>
            <p:cNvSpPr/>
            <p:nvPr/>
          </p:nvSpPr>
          <p:spPr>
            <a:xfrm>
              <a:off x="2378520" y="589752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25"/>
            <p:cNvSpPr/>
            <p:nvPr/>
          </p:nvSpPr>
          <p:spPr>
            <a:xfrm>
              <a:off x="2378520" y="626256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26"/>
            <p:cNvSpPr/>
            <p:nvPr/>
          </p:nvSpPr>
          <p:spPr>
            <a:xfrm>
              <a:off x="237852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Line 27"/>
            <p:cNvSpPr/>
            <p:nvPr/>
          </p:nvSpPr>
          <p:spPr>
            <a:xfrm>
              <a:off x="3242880" y="4437000"/>
              <a:ext cx="0" cy="18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Line 28"/>
            <p:cNvSpPr/>
            <p:nvPr/>
          </p:nvSpPr>
          <p:spPr>
            <a:xfrm>
              <a:off x="597276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84" name="AutoShape 29"/>
            <p:cNvCxnSpPr>
              <a:stCxn id="260" idx="2"/>
              <a:endCxn id="281" idx="0"/>
            </p:cNvCxnSpPr>
            <p:nvPr/>
          </p:nvCxnSpPr>
          <p:spPr>
            <a:xfrm>
              <a:off x="1746720" y="3645000"/>
              <a:ext cx="63216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AutoShape 30"/>
            <p:cNvCxnSpPr/>
            <p:nvPr/>
          </p:nvCxnSpPr>
          <p:spPr>
            <a:xfrm flipH="1">
              <a:off x="5967720" y="3645000"/>
              <a:ext cx="63180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AutoShape 31"/>
            <p:cNvCxnSpPr>
              <a:stCxn id="261" idx="2"/>
              <a:endCxn id="282" idx="0"/>
            </p:cNvCxnSpPr>
            <p:nvPr/>
          </p:nvCxnSpPr>
          <p:spPr>
            <a:xfrm>
              <a:off x="3009600" y="3645000"/>
              <a:ext cx="2336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AutoShape 32"/>
            <p:cNvCxnSpPr>
              <a:stCxn id="262" idx="2"/>
              <a:endCxn id="273" idx="0"/>
            </p:cNvCxnSpPr>
            <p:nvPr/>
          </p:nvCxnSpPr>
          <p:spPr>
            <a:xfrm>
              <a:off x="4273200" y="3645000"/>
              <a:ext cx="3362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8" name="Line 33"/>
            <p:cNvSpPr/>
            <p:nvPr/>
          </p:nvSpPr>
          <p:spPr>
            <a:xfrm flipH="1">
              <a:off x="5169600" y="3645000"/>
              <a:ext cx="33228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Text Box 34"/>
            <p:cNvSpPr/>
            <p:nvPr/>
          </p:nvSpPr>
          <p:spPr>
            <a:xfrm>
              <a:off x="2680200" y="2343240"/>
              <a:ext cx="206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Text Box 35"/>
            <p:cNvSpPr/>
            <p:nvPr/>
          </p:nvSpPr>
          <p:spPr>
            <a:xfrm>
              <a:off x="2784240" y="6375240"/>
              <a:ext cx="252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Text Box 36"/>
            <p:cNvSpPr/>
            <p:nvPr/>
          </p:nvSpPr>
          <p:spPr>
            <a:xfrm>
              <a:off x="1934280" y="6461280"/>
              <a:ext cx="45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еречень функций бизнес-процесс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95280" y="189000"/>
            <a:ext cx="5977080" cy="11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5. Распределить полученные функции по подразделениям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рганизац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4" name="Group 3"/>
          <p:cNvGrpSpPr/>
          <p:nvPr/>
        </p:nvGrpSpPr>
        <p:grpSpPr>
          <a:xfrm>
            <a:off x="1013400" y="2706840"/>
            <a:ext cx="7878240" cy="3769200"/>
            <a:chOff x="1013400" y="2706840"/>
            <a:chExt cx="7878240" cy="3769200"/>
          </a:xfrm>
        </p:grpSpPr>
        <p:grpSp>
          <p:nvGrpSpPr>
            <p:cNvPr id="295" name="Group 4"/>
            <p:cNvGrpSpPr/>
            <p:nvPr/>
          </p:nvGrpSpPr>
          <p:grpSpPr>
            <a:xfrm>
              <a:off x="1049400" y="2706840"/>
              <a:ext cx="7842240" cy="3769200"/>
              <a:chOff x="1049400" y="2706840"/>
              <a:chExt cx="7842240" cy="3769200"/>
            </a:xfrm>
          </p:grpSpPr>
          <p:sp>
            <p:nvSpPr>
              <p:cNvPr id="296" name="AutoShape 5"/>
              <p:cNvSpPr/>
              <p:nvPr/>
            </p:nvSpPr>
            <p:spPr>
              <a:xfrm>
                <a:off x="1049400" y="2712600"/>
                <a:ext cx="7842240" cy="1584000"/>
              </a:xfrm>
              <a:custGeom>
                <a:avLst/>
                <a:gdLst>
                  <a:gd name="textAreaLeft" fmla="*/ 0 w 7842240"/>
                  <a:gd name="textAreaRight" fmla="*/ 7842600 w 7842240"/>
                  <a:gd name="textAreaTop" fmla="*/ 0 h 1584000"/>
                  <a:gd name="textAreaBottom" fmla="*/ 158436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Rectangle 6"/>
              <p:cNvSpPr/>
              <p:nvPr/>
            </p:nvSpPr>
            <p:spPr>
              <a:xfrm>
                <a:off x="12484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8" name="Rectangle 7"/>
              <p:cNvSpPr/>
              <p:nvPr/>
            </p:nvSpPr>
            <p:spPr>
              <a:xfrm>
                <a:off x="251172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Rectangle 8"/>
              <p:cNvSpPr/>
              <p:nvPr/>
            </p:nvSpPr>
            <p:spPr>
              <a:xfrm>
                <a:off x="377460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Rectangle 9"/>
              <p:cNvSpPr/>
              <p:nvPr/>
            </p:nvSpPr>
            <p:spPr>
              <a:xfrm>
                <a:off x="5037840" y="3215880"/>
                <a:ext cx="99612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Rectangle 10"/>
              <p:cNvSpPr/>
              <p:nvPr/>
            </p:nvSpPr>
            <p:spPr>
              <a:xfrm>
                <a:off x="62992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Text Box 11"/>
              <p:cNvSpPr/>
              <p:nvPr/>
            </p:nvSpPr>
            <p:spPr>
              <a:xfrm>
                <a:off x="2680200" y="2706840"/>
                <a:ext cx="206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3" name="Rectangle 12"/>
              <p:cNvSpPr/>
              <p:nvPr/>
            </p:nvSpPr>
            <p:spPr>
              <a:xfrm>
                <a:off x="1353240" y="478152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4" name="Rectangle 13"/>
              <p:cNvSpPr/>
              <p:nvPr/>
            </p:nvSpPr>
            <p:spPr>
              <a:xfrm>
                <a:off x="3376080" y="5276880"/>
                <a:ext cx="2126160" cy="7038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Rectangle 14"/>
              <p:cNvSpPr/>
              <p:nvPr/>
            </p:nvSpPr>
            <p:spPr>
              <a:xfrm>
                <a:off x="5208120" y="607716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3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306" name="AutoShape 15"/>
              <p:cNvCxnSpPr>
                <a:stCxn id="297" idx="2"/>
                <a:endCxn id="303" idx="0"/>
              </p:cNvCxnSpPr>
              <p:nvPr/>
            </p:nvCxnSpPr>
            <p:spPr>
              <a:xfrm>
                <a:off x="1746720" y="4007880"/>
                <a:ext cx="74232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7" name="AutoShape 16"/>
              <p:cNvCxnSpPr>
                <a:stCxn id="298" idx="2"/>
                <a:endCxn id="304" idx="0"/>
              </p:cNvCxnSpPr>
              <p:nvPr/>
            </p:nvCxnSpPr>
            <p:spPr>
              <a:xfrm>
                <a:off x="3009600" y="4007880"/>
                <a:ext cx="143028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8" name="AutoShape 17"/>
              <p:cNvCxnSpPr>
                <a:stCxn id="299" idx="2"/>
                <a:endCxn id="303" idx="0"/>
              </p:cNvCxnSpPr>
              <p:nvPr/>
            </p:nvCxnSpPr>
            <p:spPr>
              <a:xfrm flipH="1">
                <a:off x="2487600" y="4007880"/>
                <a:ext cx="178524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9" name="AutoShape 18"/>
              <p:cNvCxnSpPr>
                <a:stCxn id="300" idx="2"/>
                <a:endCxn id="304" idx="0"/>
              </p:cNvCxnSpPr>
              <p:nvPr/>
            </p:nvCxnSpPr>
            <p:spPr>
              <a:xfrm flipH="1">
                <a:off x="4439160" y="4007880"/>
                <a:ext cx="109692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0" name="AutoShape 19"/>
              <p:cNvCxnSpPr>
                <a:stCxn id="301" idx="2"/>
                <a:endCxn id="305" idx="0"/>
              </p:cNvCxnSpPr>
              <p:nvPr/>
            </p:nvCxnSpPr>
            <p:spPr>
              <a:xfrm flipH="1">
                <a:off x="6342840" y="4008240"/>
                <a:ext cx="454680" cy="2065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11" name="Text Box 20"/>
            <p:cNvSpPr/>
            <p:nvPr/>
          </p:nvSpPr>
          <p:spPr>
            <a:xfrm>
              <a:off x="1013400" y="6031080"/>
              <a:ext cx="351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дразделения предприят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24000" y="260280"/>
            <a:ext cx="5543280" cy="136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Шаг 6. Детально описать кажды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оцесс при помощи выбранно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етодики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O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F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VA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еЕРС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611280" y="2349360"/>
            <a:ext cx="8187480" cy="4248000"/>
            <a:chOff x="611280" y="2349360"/>
            <a:chExt cx="8187480" cy="4248000"/>
          </a:xfrm>
        </p:grpSpPr>
        <p:sp>
          <p:nvSpPr>
            <p:cNvPr id="315" name="AutoShape 4"/>
            <p:cNvSpPr/>
            <p:nvPr/>
          </p:nvSpPr>
          <p:spPr>
            <a:xfrm>
              <a:off x="611280" y="2349360"/>
              <a:ext cx="7841880" cy="1079280"/>
            </a:xfrm>
            <a:custGeom>
              <a:avLst/>
              <a:gdLst>
                <a:gd name="textAreaLeft" fmla="*/ 0 w 7841880"/>
                <a:gd name="textAreaRight" fmla="*/ 7842240 w 784188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8103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18745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29379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400032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0641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Text Box 10"/>
            <p:cNvSpPr/>
            <p:nvPr/>
          </p:nvSpPr>
          <p:spPr>
            <a:xfrm>
              <a:off x="2472120" y="2420640"/>
              <a:ext cx="2543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AutoShape 11"/>
            <p:cNvSpPr/>
            <p:nvPr/>
          </p:nvSpPr>
          <p:spPr>
            <a:xfrm>
              <a:off x="677160" y="4294080"/>
              <a:ext cx="7842960" cy="2303280"/>
            </a:xfrm>
            <a:custGeom>
              <a:avLst/>
              <a:gdLst>
                <a:gd name="textAreaLeft" fmla="*/ 0 w 7842960"/>
                <a:gd name="textAreaRight" fmla="*/ 7843320 w 784296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AutoShape 12"/>
            <p:cNvSpPr/>
            <p:nvPr/>
          </p:nvSpPr>
          <p:spPr>
            <a:xfrm>
              <a:off x="3070080" y="3573360"/>
              <a:ext cx="1328400" cy="57600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Text Box 13"/>
            <p:cNvSpPr/>
            <p:nvPr/>
          </p:nvSpPr>
          <p:spPr>
            <a:xfrm>
              <a:off x="6475320" y="3501720"/>
              <a:ext cx="2323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оделирование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AutoShape 14"/>
            <p:cNvSpPr/>
            <p:nvPr/>
          </p:nvSpPr>
          <p:spPr>
            <a:xfrm>
              <a:off x="810360" y="487008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AutoShape 15"/>
            <p:cNvSpPr/>
            <p:nvPr/>
          </p:nvSpPr>
          <p:spPr>
            <a:xfrm>
              <a:off x="81036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AutoShape 16"/>
            <p:cNvSpPr/>
            <p:nvPr/>
          </p:nvSpPr>
          <p:spPr>
            <a:xfrm>
              <a:off x="21394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AutoShape 17"/>
            <p:cNvSpPr/>
            <p:nvPr/>
          </p:nvSpPr>
          <p:spPr>
            <a:xfrm>
              <a:off x="213948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AutoShape 18"/>
            <p:cNvSpPr/>
            <p:nvPr/>
          </p:nvSpPr>
          <p:spPr>
            <a:xfrm>
              <a:off x="213948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AutoShape 19"/>
            <p:cNvSpPr/>
            <p:nvPr/>
          </p:nvSpPr>
          <p:spPr>
            <a:xfrm>
              <a:off x="36676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AutoShape 20"/>
            <p:cNvSpPr/>
            <p:nvPr/>
          </p:nvSpPr>
          <p:spPr>
            <a:xfrm>
              <a:off x="3667680" y="479736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AutoShape 21"/>
            <p:cNvSpPr/>
            <p:nvPr/>
          </p:nvSpPr>
          <p:spPr>
            <a:xfrm>
              <a:off x="526320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AutoShape 22"/>
            <p:cNvSpPr/>
            <p:nvPr/>
          </p:nvSpPr>
          <p:spPr>
            <a:xfrm>
              <a:off x="526320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AutoShape 23"/>
            <p:cNvSpPr/>
            <p:nvPr/>
          </p:nvSpPr>
          <p:spPr>
            <a:xfrm>
              <a:off x="526320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AutoShape 24"/>
            <p:cNvSpPr/>
            <p:nvPr/>
          </p:nvSpPr>
          <p:spPr>
            <a:xfrm>
              <a:off x="6725520" y="515772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36" name="AutoShape 25"/>
            <p:cNvCxnSpPr>
              <a:stCxn id="325" idx="0"/>
              <a:endCxn id="329" idx="0"/>
            </p:cNvCxnSpPr>
            <p:nvPr/>
          </p:nvCxnSpPr>
          <p:spPr>
            <a:xfrm flipV="1">
              <a:off x="1740600" y="4725000"/>
              <a:ext cx="399240" cy="36108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7" name="AutoShape 26"/>
            <p:cNvCxnSpPr>
              <a:stCxn id="325" idx="1"/>
              <a:endCxn id="328" idx="0"/>
            </p:cNvCxnSpPr>
            <p:nvPr/>
          </p:nvCxnSpPr>
          <p:spPr>
            <a:xfrm>
              <a:off x="1740600" y="5085720"/>
              <a:ext cx="399240" cy="35964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8" name="AutoShape 27"/>
            <p:cNvCxnSpPr>
              <a:stCxn id="326" idx="0"/>
              <a:endCxn id="327" idx="0"/>
            </p:cNvCxnSpPr>
            <p:nvPr/>
          </p:nvCxnSpPr>
          <p:spPr>
            <a:xfrm>
              <a:off x="1740600" y="6165360"/>
              <a:ext cx="399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9" name="AutoShape 28"/>
            <p:cNvCxnSpPr>
              <a:stCxn id="329" idx="1"/>
              <a:endCxn id="331" idx="0"/>
            </p:cNvCxnSpPr>
            <p:nvPr/>
          </p:nvCxnSpPr>
          <p:spPr>
            <a:xfrm>
              <a:off x="3070080" y="472572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0" name="AutoShape 29"/>
            <p:cNvCxnSpPr>
              <a:stCxn id="327" idx="1"/>
              <a:endCxn id="331" idx="1"/>
            </p:cNvCxnSpPr>
            <p:nvPr/>
          </p:nvCxnSpPr>
          <p:spPr>
            <a:xfrm flipV="1">
              <a:off x="3070080" y="501264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1" name="AutoShape 30"/>
            <p:cNvCxnSpPr>
              <a:stCxn id="327" idx="2"/>
              <a:endCxn id="330" idx="0"/>
            </p:cNvCxnSpPr>
            <p:nvPr/>
          </p:nvCxnSpPr>
          <p:spPr>
            <a:xfrm>
              <a:off x="3070080" y="616536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2" name="AutoShape 31"/>
            <p:cNvCxnSpPr>
              <a:stCxn id="328" idx="1"/>
              <a:endCxn id="334" idx="0"/>
            </p:cNvCxnSpPr>
            <p:nvPr/>
          </p:nvCxnSpPr>
          <p:spPr>
            <a:xfrm flipV="1">
              <a:off x="3070080" y="4725360"/>
              <a:ext cx="2193840" cy="720000"/>
            </a:xfrm>
            <a:prstGeom prst="bentConnector3">
              <a:avLst>
                <a:gd name="adj1" fmla="val 8475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3" name="AutoShape 32"/>
            <p:cNvCxnSpPr>
              <a:stCxn id="331" idx="2"/>
              <a:endCxn id="334" idx="1"/>
            </p:cNvCxnSpPr>
            <p:nvPr/>
          </p:nvCxnSpPr>
          <p:spPr>
            <a:xfrm flipV="1">
              <a:off x="4597560" y="4725360"/>
              <a:ext cx="66564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4" name="AutoShape 33"/>
            <p:cNvCxnSpPr>
              <a:stCxn id="330" idx="1"/>
              <a:endCxn id="333" idx="0"/>
            </p:cNvCxnSpPr>
            <p:nvPr/>
          </p:nvCxnSpPr>
          <p:spPr>
            <a:xfrm flipV="1">
              <a:off x="4597560" y="5444640"/>
              <a:ext cx="665640" cy="721440"/>
            </a:xfrm>
            <a:prstGeom prst="bentConnector3">
              <a:avLst>
                <a:gd name="adj1" fmla="val 6163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5" name="AutoShape 34"/>
            <p:cNvCxnSpPr>
              <a:stCxn id="330" idx="2"/>
              <a:endCxn id="332" idx="0"/>
            </p:cNvCxnSpPr>
            <p:nvPr/>
          </p:nvCxnSpPr>
          <p:spPr>
            <a:xfrm>
              <a:off x="4597560" y="616536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6" name="AutoShape 35"/>
            <p:cNvCxnSpPr>
              <a:stCxn id="334" idx="2"/>
              <a:endCxn id="335" idx="0"/>
            </p:cNvCxnSpPr>
            <p:nvPr/>
          </p:nvCxnSpPr>
          <p:spPr>
            <a:xfrm>
              <a:off x="6193440" y="4725360"/>
              <a:ext cx="519120" cy="648360"/>
            </a:xfrm>
            <a:prstGeom prst="bentConnector3">
              <a:avLst>
                <a:gd name="adj1" fmla="val 510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7" name="Line 36"/>
            <p:cNvSpPr/>
            <p:nvPr/>
          </p:nvSpPr>
          <p:spPr>
            <a:xfrm>
              <a:off x="6193440" y="616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7656120" y="5373360"/>
              <a:ext cx="86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>
              <a:off x="6193440" y="472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Line 39"/>
            <p:cNvSpPr/>
            <p:nvPr/>
          </p:nvSpPr>
          <p:spPr>
            <a:xfrm>
              <a:off x="6193440" y="544500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40"/>
            <p:cNvSpPr/>
            <p:nvPr/>
          </p:nvSpPr>
          <p:spPr>
            <a:xfrm>
              <a:off x="6392880" y="5445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Oval 41"/>
            <p:cNvSpPr/>
            <p:nvPr/>
          </p:nvSpPr>
          <p:spPr>
            <a:xfrm>
              <a:off x="744840" y="4437000"/>
              <a:ext cx="2657520" cy="136836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Oval 42"/>
            <p:cNvSpPr/>
            <p:nvPr/>
          </p:nvSpPr>
          <p:spPr>
            <a:xfrm>
              <a:off x="611280" y="5805360"/>
              <a:ext cx="4186080" cy="72072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Oval 43"/>
            <p:cNvSpPr/>
            <p:nvPr/>
          </p:nvSpPr>
          <p:spPr>
            <a:xfrm>
              <a:off x="3402360" y="4365360"/>
              <a:ext cx="2858400" cy="86364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Oval 44"/>
            <p:cNvSpPr/>
            <p:nvPr/>
          </p:nvSpPr>
          <p:spPr>
            <a:xfrm>
              <a:off x="5130000" y="5086080"/>
              <a:ext cx="1197000" cy="144000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56" name="AutoShape 45"/>
            <p:cNvCxnSpPr>
              <a:stCxn id="316" idx="2"/>
              <a:endCxn id="352" idx="1"/>
            </p:cNvCxnSpPr>
            <p:nvPr/>
          </p:nvCxnSpPr>
          <p:spPr>
            <a:xfrm flipH="1">
              <a:off x="1133640" y="3285720"/>
              <a:ext cx="75240" cy="1337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AutoShape 46"/>
            <p:cNvCxnSpPr>
              <a:stCxn id="317" idx="2"/>
              <a:endCxn id="353" idx="0"/>
            </p:cNvCxnSpPr>
            <p:nvPr/>
          </p:nvCxnSpPr>
          <p:spPr>
            <a:xfrm>
              <a:off x="2272680" y="3286080"/>
              <a:ext cx="432720" cy="2505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AutoShape 47"/>
            <p:cNvCxnSpPr>
              <a:stCxn id="318" idx="2"/>
              <a:endCxn id="354" idx="1"/>
            </p:cNvCxnSpPr>
            <p:nvPr/>
          </p:nvCxnSpPr>
          <p:spPr>
            <a:xfrm>
              <a:off x="3336120" y="3285720"/>
              <a:ext cx="485640" cy="1192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AutoShape 48"/>
            <p:cNvCxnSpPr>
              <a:stCxn id="319" idx="2"/>
              <a:endCxn id="355" idx="0"/>
            </p:cNvCxnSpPr>
            <p:nvPr/>
          </p:nvCxnSpPr>
          <p:spPr>
            <a:xfrm>
              <a:off x="4398840" y="3285720"/>
              <a:ext cx="1331280" cy="1786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AutoShape 49"/>
            <p:cNvCxnSpPr>
              <a:stCxn id="320" idx="2"/>
              <a:endCxn id="335" idx="1"/>
            </p:cNvCxnSpPr>
            <p:nvPr/>
          </p:nvCxnSpPr>
          <p:spPr>
            <a:xfrm>
              <a:off x="5462280" y="3285720"/>
              <a:ext cx="1612440" cy="1857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95280" y="404640"/>
            <a:ext cx="5689440" cy="187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7. Составить регламенты п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ому бизнес-процесс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формировать матриц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ветственности по каждо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378160" y="4941720"/>
          <a:ext cx="2660400" cy="1898640"/>
        </p:xfrm>
        <a:graphic>
          <a:graphicData uri="http://schemas.openxmlformats.org/drawingml/2006/table">
            <a:tbl>
              <a:tblPr/>
              <a:tblGrid>
                <a:gridCol w="664920"/>
                <a:gridCol w="398520"/>
                <a:gridCol w="400320"/>
                <a:gridCol w="398160"/>
                <a:gridCol w="398520"/>
                <a:gridCol w="3999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Text Box 40"/>
          <p:cNvSpPr/>
          <p:nvPr/>
        </p:nvSpPr>
        <p:spPr>
          <a:xfrm>
            <a:off x="1411920" y="6521400"/>
            <a:ext cx="458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трица ответственности бизнес-проце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5" name="Group 41"/>
          <p:cNvGrpSpPr/>
          <p:nvPr/>
        </p:nvGrpSpPr>
        <p:grpSpPr>
          <a:xfrm>
            <a:off x="981000" y="2421000"/>
            <a:ext cx="7845480" cy="2520720"/>
            <a:chOff x="981000" y="2421000"/>
            <a:chExt cx="7845480" cy="2520720"/>
          </a:xfrm>
        </p:grpSpPr>
        <p:sp>
          <p:nvSpPr>
            <p:cNvPr id="366" name="AutoShape 42"/>
            <p:cNvSpPr/>
            <p:nvPr/>
          </p:nvSpPr>
          <p:spPr>
            <a:xfrm>
              <a:off x="981000" y="2421000"/>
              <a:ext cx="7845480" cy="2303280"/>
            </a:xfrm>
            <a:custGeom>
              <a:avLst/>
              <a:gdLst>
                <a:gd name="textAreaLeft" fmla="*/ 0 w 7845480"/>
                <a:gd name="textAreaRight" fmla="*/ 7845840 w 784548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AutoShape 43"/>
            <p:cNvSpPr/>
            <p:nvPr/>
          </p:nvSpPr>
          <p:spPr>
            <a:xfrm>
              <a:off x="1114200" y="299736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AutoShape 44"/>
            <p:cNvSpPr/>
            <p:nvPr/>
          </p:nvSpPr>
          <p:spPr>
            <a:xfrm>
              <a:off x="111420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AutoShape 45"/>
            <p:cNvSpPr/>
            <p:nvPr/>
          </p:nvSpPr>
          <p:spPr>
            <a:xfrm>
              <a:off x="24433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AutoShape 46"/>
            <p:cNvSpPr/>
            <p:nvPr/>
          </p:nvSpPr>
          <p:spPr>
            <a:xfrm>
              <a:off x="24433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AutoShape 47"/>
            <p:cNvSpPr/>
            <p:nvPr/>
          </p:nvSpPr>
          <p:spPr>
            <a:xfrm>
              <a:off x="24433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AutoShape 48"/>
            <p:cNvSpPr/>
            <p:nvPr/>
          </p:nvSpPr>
          <p:spPr>
            <a:xfrm>
              <a:off x="397224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AutoShape 49"/>
            <p:cNvSpPr/>
            <p:nvPr/>
          </p:nvSpPr>
          <p:spPr>
            <a:xfrm>
              <a:off x="3972240" y="292428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AutoShape 50"/>
            <p:cNvSpPr/>
            <p:nvPr/>
          </p:nvSpPr>
          <p:spPr>
            <a:xfrm>
              <a:off x="55681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AutoShape 51"/>
            <p:cNvSpPr/>
            <p:nvPr/>
          </p:nvSpPr>
          <p:spPr>
            <a:xfrm>
              <a:off x="55681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AutoShape 52"/>
            <p:cNvSpPr/>
            <p:nvPr/>
          </p:nvSpPr>
          <p:spPr>
            <a:xfrm>
              <a:off x="7030800" y="328464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77" name="AutoShape 53"/>
            <p:cNvCxnSpPr>
              <a:stCxn id="367" idx="0"/>
              <a:endCxn id="371" idx="0"/>
            </p:cNvCxnSpPr>
            <p:nvPr/>
          </p:nvCxnSpPr>
          <p:spPr>
            <a:xfrm flipV="1">
              <a:off x="2044800" y="2851920"/>
              <a:ext cx="398880" cy="36108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8" name="AutoShape 54"/>
            <p:cNvCxnSpPr>
              <a:stCxn id="367" idx="1"/>
              <a:endCxn id="370" idx="0"/>
            </p:cNvCxnSpPr>
            <p:nvPr/>
          </p:nvCxnSpPr>
          <p:spPr>
            <a:xfrm>
              <a:off x="2044800" y="3212640"/>
              <a:ext cx="398880" cy="35964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9" name="AutoShape 55"/>
            <p:cNvCxnSpPr>
              <a:stCxn id="368" idx="0"/>
              <a:endCxn id="369" idx="0"/>
            </p:cNvCxnSpPr>
            <p:nvPr/>
          </p:nvCxnSpPr>
          <p:spPr>
            <a:xfrm>
              <a:off x="2044800" y="4292280"/>
              <a:ext cx="398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0" name="AutoShape 56"/>
            <p:cNvCxnSpPr>
              <a:stCxn id="371" idx="1"/>
              <a:endCxn id="373" idx="0"/>
            </p:cNvCxnSpPr>
            <p:nvPr/>
          </p:nvCxnSpPr>
          <p:spPr>
            <a:xfrm>
              <a:off x="3374280" y="285264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1" name="AutoShape 57"/>
            <p:cNvCxnSpPr>
              <a:stCxn id="369" idx="1"/>
              <a:endCxn id="373" idx="1"/>
            </p:cNvCxnSpPr>
            <p:nvPr/>
          </p:nvCxnSpPr>
          <p:spPr>
            <a:xfrm flipV="1">
              <a:off x="3374280" y="313956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AutoShape 58"/>
            <p:cNvCxnSpPr>
              <a:stCxn id="369" idx="2"/>
              <a:endCxn id="372" idx="0"/>
            </p:cNvCxnSpPr>
            <p:nvPr/>
          </p:nvCxnSpPr>
          <p:spPr>
            <a:xfrm>
              <a:off x="3374280" y="429228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3" name="AutoShape 59"/>
            <p:cNvCxnSpPr>
              <a:stCxn id="370" idx="1"/>
              <a:endCxn id="375" idx="0"/>
            </p:cNvCxnSpPr>
            <p:nvPr/>
          </p:nvCxnSpPr>
          <p:spPr>
            <a:xfrm flipV="1">
              <a:off x="3374280" y="2852280"/>
              <a:ext cx="2194560" cy="720000"/>
            </a:xfrm>
            <a:prstGeom prst="bentConnector3">
              <a:avLst>
                <a:gd name="adj1" fmla="val 8475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4" name="AutoShape 60"/>
            <p:cNvCxnSpPr>
              <a:stCxn id="373" idx="2"/>
              <a:endCxn id="375" idx="1"/>
            </p:cNvCxnSpPr>
            <p:nvPr/>
          </p:nvCxnSpPr>
          <p:spPr>
            <a:xfrm flipV="1">
              <a:off x="4902840" y="2852280"/>
              <a:ext cx="665640" cy="288000"/>
            </a:xfrm>
            <a:prstGeom prst="bentConnector3">
              <a:avLst>
                <a:gd name="adj1" fmla="val 4978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5" name="AutoShape 61"/>
            <p:cNvCxnSpPr>
              <a:stCxn id="372" idx="1"/>
              <a:endCxn id="374" idx="0"/>
            </p:cNvCxnSpPr>
            <p:nvPr/>
          </p:nvCxnSpPr>
          <p:spPr>
            <a:xfrm flipV="1">
              <a:off x="4902840" y="3571560"/>
              <a:ext cx="665640" cy="721440"/>
            </a:xfrm>
            <a:prstGeom prst="bentConnector3">
              <a:avLst>
                <a:gd name="adj1" fmla="val 6168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AutoShape 62"/>
            <p:cNvCxnSpPr>
              <a:stCxn id="372" idx="2"/>
              <a:endCxn id="387" idx="0"/>
            </p:cNvCxnSpPr>
            <p:nvPr/>
          </p:nvCxnSpPr>
          <p:spPr>
            <a:xfrm>
              <a:off x="4902840" y="429228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AutoShape 63"/>
            <p:cNvCxnSpPr>
              <a:stCxn id="375" idx="2"/>
              <a:endCxn id="376" idx="0"/>
            </p:cNvCxnSpPr>
            <p:nvPr/>
          </p:nvCxnSpPr>
          <p:spPr>
            <a:xfrm>
              <a:off x="6498720" y="2852280"/>
              <a:ext cx="532800" cy="648360"/>
            </a:xfrm>
            <a:prstGeom prst="bentConnector3">
              <a:avLst>
                <a:gd name="adj1" fmla="val 4983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9" name="Line 64"/>
            <p:cNvSpPr/>
            <p:nvPr/>
          </p:nvSpPr>
          <p:spPr>
            <a:xfrm>
              <a:off x="6498720" y="429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Line 65"/>
            <p:cNvSpPr/>
            <p:nvPr/>
          </p:nvSpPr>
          <p:spPr>
            <a:xfrm>
              <a:off x="7961400" y="3500280"/>
              <a:ext cx="86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Line 66"/>
            <p:cNvSpPr/>
            <p:nvPr/>
          </p:nvSpPr>
          <p:spPr>
            <a:xfrm>
              <a:off x="6498720" y="285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Line 67"/>
            <p:cNvSpPr/>
            <p:nvPr/>
          </p:nvSpPr>
          <p:spPr>
            <a:xfrm>
              <a:off x="6498720" y="357192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Line 68"/>
            <p:cNvSpPr/>
            <p:nvPr/>
          </p:nvSpPr>
          <p:spPr>
            <a:xfrm>
              <a:off x="6698160" y="35719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Line 69"/>
            <p:cNvSpPr/>
            <p:nvPr/>
          </p:nvSpPr>
          <p:spPr>
            <a:xfrm>
              <a:off x="1779480" y="4508640"/>
              <a:ext cx="5976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Line 70"/>
            <p:cNvSpPr/>
            <p:nvPr/>
          </p:nvSpPr>
          <p:spPr>
            <a:xfrm>
              <a:off x="1779480" y="3429000"/>
              <a:ext cx="930600" cy="15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Line 71"/>
            <p:cNvSpPr/>
            <p:nvPr/>
          </p:nvSpPr>
          <p:spPr>
            <a:xfrm>
              <a:off x="2843280" y="4508640"/>
              <a:ext cx="19908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Line 72"/>
            <p:cNvSpPr/>
            <p:nvPr/>
          </p:nvSpPr>
          <p:spPr>
            <a:xfrm>
              <a:off x="2775960" y="3789360"/>
              <a:ext cx="5320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Line 73"/>
            <p:cNvSpPr/>
            <p:nvPr/>
          </p:nvSpPr>
          <p:spPr>
            <a:xfrm>
              <a:off x="2710080" y="3068640"/>
              <a:ext cx="79848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Line 74"/>
            <p:cNvSpPr/>
            <p:nvPr/>
          </p:nvSpPr>
          <p:spPr>
            <a:xfrm flipH="1">
              <a:off x="3973320" y="3357720"/>
              <a:ext cx="53208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Line 75"/>
            <p:cNvSpPr/>
            <p:nvPr/>
          </p:nvSpPr>
          <p:spPr>
            <a:xfrm flipH="1">
              <a:off x="4505040" y="3068640"/>
              <a:ext cx="113004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Line 76"/>
            <p:cNvSpPr/>
            <p:nvPr/>
          </p:nvSpPr>
          <p:spPr>
            <a:xfrm flipH="1">
              <a:off x="4770720" y="3789360"/>
              <a:ext cx="79704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2" name="Line 77"/>
            <p:cNvSpPr/>
            <p:nvPr/>
          </p:nvSpPr>
          <p:spPr>
            <a:xfrm flipH="1">
              <a:off x="5037840" y="3716280"/>
              <a:ext cx="1992960" cy="12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AutoShape 78"/>
            <p:cNvSpPr/>
            <p:nvPr/>
          </p:nvSpPr>
          <p:spPr>
            <a:xfrm>
              <a:off x="55681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3" name="Line 79"/>
            <p:cNvSpPr/>
            <p:nvPr/>
          </p:nvSpPr>
          <p:spPr>
            <a:xfrm flipH="1">
              <a:off x="4903920" y="4508640"/>
              <a:ext cx="66384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Line 80"/>
            <p:cNvSpPr/>
            <p:nvPr/>
          </p:nvSpPr>
          <p:spPr>
            <a:xfrm flipH="1">
              <a:off x="3840120" y="4508640"/>
              <a:ext cx="1332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41385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ектирование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чего мест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1600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должности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бор информации о содержании должности в контексте её функционирования и о взаимоотношениях с другими должностям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и систематизация собранной информации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представление проанализированной информации в последовательной и логически связанной форме (создание описания должности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377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ритерии оценки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олжност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52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знания и умения (ноу-хау) – уровень требуемых технических, управленческих и прочих специальных знаний, навыков общения, необходимых для успешной работы в должности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ешение проблем (problem solving) – степень сложности проблем и свободы принимаемых решений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тветственность (accountability) – уровень решений, принимаемых в процессе работы, и их потенциальное влияние на результаты работ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компании (свобода действий, степень и зона влияния на финансовый результат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32731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сталая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3" name="Picture 3" descr="org_losing_9signs_6x4_ru"/>
          <p:cNvPicPr/>
          <p:nvPr/>
        </p:nvPicPr>
        <p:blipFill>
          <a:blip r:embed="rId1"/>
          <a:srcRect l="0" t="14047" r="0" b="0"/>
          <a:stretch/>
        </p:blipFill>
        <p:spPr>
          <a:xfrm>
            <a:off x="1619280" y="1700280"/>
            <a:ext cx="6348240" cy="40924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5146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Цели организационного проектиров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424720" cy="455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оздать организационную структуру в соответствии с бизнес стратегией компан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Привести к единому знаменателю организационную структуру в управляющей компании и обособленных бизнес-единицах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птимизировать бизнес-процессы внутри организа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спределить полномочия и ответственность между подразделениями и сотрудниками компании («матрица ответственности»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Унифицировать штатное расписание и создать единую систему  стимулирования во всех бизнес-единицах компании (премии, завязанные на индивидуальные оценочные показатели, и базовые оклады в соответствии с системой грейдов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4895640" cy="107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Элементы структуры управл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8137440" cy="469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Звенья – графическое изображение должности работника, наименование подразделения или выполняемой функ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Связь – графическое изображение траектории взаимодействия работников. Связи принято подразделять на несколько видов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горизонтальные и вертик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линейные и функцион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формальные и неформ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прямые и косвенны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Под уровнем управления понимают вертикальное расположение звена относительно высшего для данной организации органа управления или должностного лиц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39607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82803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 (англ. Organizational structure) — совокупность способов, посредством которых процесс труда сначала разделяется на отдельные рабочие задачи, а затем достигается координация действий по решению задач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определяет распределение ответственности и полномочий внутри организац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ргструктура отображается в виде </a:t>
            </a: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граммы (англ. organigram) — графической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схемы, элементами которой являются иерархически упорядоченные организационные единицы (подразделения, должностные позиции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48243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ерархический тип структур управления </a:t>
            </a:r>
            <a:br>
              <a:rPr sz="3200"/>
            </a:br>
            <a:r>
              <a:rPr b="1" i="1" lang="en-US" sz="1200" spc="-1" strike="noStrike">
                <a:solidFill>
                  <a:srgbClr val="006666"/>
                </a:solidFill>
                <a:latin typeface="Arial"/>
              </a:rPr>
              <a:t>М.Вебер концепция рациональной бюрократии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64360" cy="417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иерархичности уровней управления, при котором каждый нижестоящий уровень контролируется вышестоящим и подчиняется ем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соответствия полномочий и ответственности работников управления месту в иерарх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разделения труда на отдельные функции и специализации работников по выполняемым функциям; принцип формализации и стандартизации деятельности, обеспечивающий однородность выполнения работниками своих обязанностей и скоординированность различных задач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обезличенности выполнения работниками своих функций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квалификационного отбора, в соотвествии с которым найм и увольнение с работы производится в строгом соответствии с квалификационными требования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597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инейная организационная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Picture 5" descr="iso9000-13"/>
          <p:cNvPicPr/>
          <p:nvPr/>
        </p:nvPicPr>
        <p:blipFill>
          <a:blip r:embed="rId1"/>
          <a:stretch/>
        </p:blipFill>
        <p:spPr>
          <a:xfrm>
            <a:off x="2627280" y="1552680"/>
            <a:ext cx="4762440" cy="5305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56880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713800" cy="453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взаимных связей функций и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единоначалия - один руководитель сосредотачивает в своих руках руководство всей совокупностью процессов, имеющих общую цел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ясно выраженная ответствен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ыстрая реакция исполнительных подразделений на прямые указания вышестоящи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сутствие звеньев, занимающихся вопросами стратегического планирования; в работе руководителей практически всех уровней оперативные проблемы ("текучка") доминирует над стратегически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волоките и перекладыванию ответственности при решении проблем, требующих участия нескольких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малая гибкость и приспособляемость к изменению ситуа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критерии эффективности и качества работы подразделений и организации в целом - разны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формализации оценки эффективности и качества работы подразделений приводит обычно к возникновению атмосферы страха и разобщенност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ьшое число "этажей управления" между работниками, выпускающими продукцию, и лицом, принимающим решени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ерегрузка управленцев верхнего уровн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овышенная зависимость результатов работы организации от квалификации, личных и деловых качеств высших управленце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17:25:46Z</dcterms:created>
  <dc:creator>Елена</dc:creator>
  <dc:description/>
  <dc:language>en-US</dc:language>
  <cp:lastModifiedBy>Vladimir</cp:lastModifiedBy>
  <dcterms:modified xsi:type="dcterms:W3CDTF">2017-08-17T05:54:58Z</dcterms:modified>
  <cp:revision>21</cp:revision>
  <dc:subject/>
  <dc:title>Слайд 1</dc:title>
</cp:coreProperties>
</file>